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E9C-9D8A-44D5-93C1-C5737915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ABF-51E5-4F9D-8B3C-0DEE2A8F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29C-0A84-4C1D-8A6D-4AD445F7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5D0-A5B8-4A75-8D0B-A017598B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7A73-C904-4BA4-96F9-8E19E51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458-73F7-4D74-A187-06481402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383F-D297-4887-8ADC-ABE5512A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B61-A8E7-4AE6-8AC5-D503295B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5A8-3A5F-480F-AE62-75F697E2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50B-810B-4EB5-B2C6-4399D6D7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0D2A-AD58-4601-BF15-D0A81F0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748-E0F1-4D4F-B8F3-9F742C8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24F9-04E7-47C4-9536-89F7515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70CB-5ED1-4A18-B7AC-EF28FD9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8316-AF3C-42B1-96E6-9618BEB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306-9A86-4A86-86BF-1EFA32CA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51B-070C-4833-AEB5-511CFD58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EC16-B44F-4738-AE96-8738905A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37EE-4501-4443-9978-4ABF24A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C455-3795-42A8-8880-754E527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B8D9-8CB7-46D6-BEDD-075EFA0A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0B2C-2F2A-4856-8537-821AB3C9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167-F3FA-45EB-A4C9-E7F8DF2B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1192-DC52-40C4-933A-2000C74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D1B3-99E6-4546-B9E0-5C9E475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8A72-71FB-45C3-8843-CE102E1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39AA-8A26-46BB-873C-50F561A2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659D-3FB8-4EFB-94C8-BB06CB55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A2FD-A8A3-4AD0-AEE5-1951B156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446B-9072-4224-91D9-D3A7B92F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369B-4F8F-4764-9C9C-B9A7EADF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6081-7B1D-433B-A018-21D60DB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37A9-6EF3-4808-BB72-D1EDA4C9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B42-6B7F-45CB-9813-5AABFAAD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B9B1-46CA-4C82-A664-A34BB97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268A-FCEE-463E-8FB4-76E9C49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F2FA-F2AA-4857-9F4D-262C7FE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C95E-0090-443C-9617-7D52548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9328-A6B9-477E-B1A7-4E962B5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E1D0-F6E5-4AD9-A3A0-7CFA81B1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9866-2472-4CF0-9867-91509E5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D5F7-0B6D-4A15-A6B2-33230C36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3AF3-6F6F-4616-AFF3-B3EB01B3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57BD-D3FF-40F4-A3FB-BD52895E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80D-D3BF-4D86-BBBB-2F777D0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C668-F9C2-4F4C-9607-7981581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6C4F-6AE4-4EDC-BC5F-2B7450F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88B3-21D3-448F-8D44-C87D809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9ECB-C18D-4DC1-B414-52C8B47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9372-CEEA-40CD-8EFE-B999A6C7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16CF-DECC-4F83-A4CF-439B6DD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6FC4-F117-47CD-BCC9-706CFAD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25443-F2B3-4BC4-9AC7-1AC3757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B023-A546-4988-BFE9-F5E26AC9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A629-C4B2-4888-B097-51B98331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175-4B1E-43D2-843D-5D2DC12C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FA81-131C-4AEF-B55A-572F6562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DC7DA-9A61-4D4B-8271-0625D4AC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B6302-D037-4077-AC3C-D4F9A268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265E6-E937-4FB6-AF45-9BDDD8D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6CEFA-BE68-4F91-AC4B-EFF2748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5C4FC-BA96-413C-92ED-1D647B2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9A6AA-76D6-4639-AAD6-BD8B02E2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205CB-0386-4656-92F7-A00D260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924D4-BDC3-4B14-A819-7BFA020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4F572-FCB2-42B9-B159-AD07D06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B8C-1630-4675-9038-07912EC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BFD02-3015-4162-BAFF-3AEFC3B6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6E71F-0F18-4E57-9E06-4C167A2F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77F0A-FBCD-49C7-95A4-767D5D26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B01-6DC4-4FCB-9968-03F7325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E50-B4C3-4F8F-B67D-6C7B1B4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CD89-692C-4F37-A7FA-1428B8E3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0D3-D6C0-4F1C-A6F8-967128F8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4F91-260D-4D4C-99AC-9DCF5EBDAC8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A17-B66B-43AA-8206-CA9081AECB9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5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5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6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691-0E9A-4374-B475-8A2B2EFB4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072-8EC2-49EE-9C79-10AF2F3D8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a.org/info/facts04/circulation-daily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re-Calculus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alyzing  a 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Castellar"/>
              </a:rPr>
              <a:t>How to earn point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group of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</a:t>
            </a:r>
            <a:r>
              <a:rPr b="0" lang="en-US" sz="4000" spc="-1" strike="noStrike">
                <a:solidFill>
                  <a:srgbClr val="ff3300"/>
                </a:solidFill>
                <a:latin typeface="Bodoni MT Black"/>
              </a:rPr>
              <a:t>pap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will need to address each of the 8 characteristics of your grap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Castellar"/>
              </a:rPr>
              <a:t>How to earn point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ation must be typed, double spaced, 12 font, at least one page but no more than two pages.  (Use the 6 traits of writing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product is worth 40 points.  (2 points for each characteristic and 4 points per trait in the writing cont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890880" y="2475000"/>
            <a:ext cx="1362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49133E-006 C 0.18368 0.09943 0.36736 0.19908 0.36024 0.23053 C 0.35312 0.26197 0.02725 0.19654 -0.04288 0.18821 E">
                                      <p:cBhvr>
                                        <p:cTn id="13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tion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function has many characteris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308480" cy="430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-decreas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e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extrema,Maximums and/or minim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ympt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Your mission 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(should you decide to accept it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Create a RAF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 – Real world 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– 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 –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 --  Topic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Your  Role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are a mathematical analyst for your company.  It is your job to analyze the previous year’s production graph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udienc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board of direc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ormat: 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resentation P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prepare a presentation paper to the board of directors which addresses the company’s performance by using a model (graph) of the comp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pic:  Graph Analy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locating your company’s graph on the internet, in a newspaper or in a magaz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Address each of the 8 characteristics of the 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Based on the graph explain the company’s past performan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repare a paper presentation of your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 of a company grap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Questar Corp. (STR)"/>
          <p:cNvPicPr/>
          <p:nvPr/>
        </p:nvPicPr>
        <p:blipFill>
          <a:blip r:embed="rId2"/>
          <a:stretch/>
        </p:blipFill>
        <p:spPr>
          <a:xfrm>
            <a:off x="2743200" y="312408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39:59Z</dcterms:created>
  <dc:creator>Rebecca Wells</dc:creator>
  <dc:description/>
  <dc:language>en-US</dc:language>
  <cp:lastModifiedBy>Rebecca Wells</cp:lastModifiedBy>
  <dcterms:modified xsi:type="dcterms:W3CDTF">2007-09-20T21:23:04Z</dcterms:modified>
  <cp:revision>8</cp:revision>
  <dc:subject/>
  <dc:title>Pre-Calculus </dc:title>
</cp:coreProperties>
</file>